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png" ContentType="image/pn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14.jpeg" ContentType="image/jpeg"/>
  <Override PartName="/ppt/media/image8.png" ContentType="image/png"/>
  <Override PartName="/ppt/media/image16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30C-6FD9-4E67-AC8F-EE32FA2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411-64B9-45FC-AE06-120E6FF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50C-E3F4-44D4-A491-5A1849CA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2B2-2747-4A46-A8C3-EC180255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3F28-6B08-4DC7-A713-572CAB89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4DF2-737B-4BD8-9895-22413450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8447-51A4-41A4-9B04-7A8F84C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FA8-DA0B-4445-BC72-D97AA54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B1E4-6D39-4632-A90D-A003A79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82A-24C5-47AF-A765-41997B3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2183-6679-44C5-80E4-C5473AD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EF4-E9D0-4A7D-A571-7BBB5BA0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85F-0785-44EB-962C-8247ABCB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E56-7EF9-45B5-8F28-93EE448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D59A-5558-486F-A493-52FA51F8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4005-BD7B-4529-B7FF-A23F86A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857C-201B-4876-90BD-C41B03E9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1A4-4917-4E3B-9C21-4B9E186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408-BA6C-4662-A998-863B9F4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038-0061-455B-8857-390F2545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93C-8642-4B50-A8C4-B43C432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C84-20DC-4E07-86C5-BA8DAFC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410-3278-4694-9E3A-C954C83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48D-049A-4414-8C60-4F4E8FA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4848-5886-4C0B-88FA-0296317BC3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55F0-6A26-4212-9B61-64529D682F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T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LT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03:25:17Z</dcterms:modified>
  <cp:revision>3</cp:revision>
  <dc:subject/>
  <dc:title>Shortcuts and Hotkeys</dc:title>
</cp:coreProperties>
</file>